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3D5-0646-4A1C-94AB-65F88168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D22-FA95-4DCA-BCDE-6B90DD4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365-A98F-4C70-9273-30C3F63A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27E-4F09-4951-97DB-92DB9336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784-CEF9-4AC8-951B-24332212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0B0C-0094-4013-B6A4-82E8480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E67E-C17C-4B53-8FC2-02BED37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4895-B2A0-4EB5-9EE7-AAC91FCE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57FC-66A7-4F5C-B71A-4AF41370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FE6-DCA2-4565-B692-189ECE6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336-B06C-4F94-A988-4F4687A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DB8-CD83-418C-A6CE-D02A82F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E18-A720-4338-AF7A-3254CE6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EBC-36FB-4545-BE76-11C3B83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F358-79E3-4563-9CB2-E00D420C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C9F9-B1CC-4CF0-9E40-D1A86A67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E873-FC00-4F43-8FCE-39476CA8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C4E-6AFF-4B24-845F-0A04BCCF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573-2343-4591-856E-2762E60B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5B5-A325-4C4F-92E9-52377533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C9B-9FEC-43E5-B480-B8738CC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8B8-60DC-4464-84B5-D29EBB4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52D-7506-4AC3-AF6E-24CD97E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FA9-AAFE-4F16-944A-B8F1271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0A0-3AF0-4DB5-A828-C3E668B85D7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cee1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cee1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f9fbfd"/>
                </a:gs>
                <a:gs pos="50000">
                  <a:srgbClr val="d0e2f4"/>
                </a:gs>
                <a:gs pos="100000">
                  <a:srgbClr val="f9fb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50000">
                  <a:srgbClr val="26d2e4"/>
                </a:gs>
                <a:gs pos="100000">
                  <a:srgbClr val="cee1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cee1f4"/>
                </a:gs>
                <a:gs pos="100000">
                  <a:srgbClr val="f9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f9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00CC-8D4D-4398-9E22-253E76077A5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gomes@sp.gov.br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âmara Técnica de Integração de Procedimentos, Ações de Outorga e Ações Reguladora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43792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v/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724280"/>
            <a:ext cx="6477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ELHO NACIONAL DE RECURSOS HÍDRIC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CNRH 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16765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rt. 5º São instrumentos da Política Nacional de Recursos Hídrico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os Planos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o enquadramento dos corpos de água em classes, segundo os usos preponderantes da água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  <a:ea typeface="Times New Roman"/>
              </a:rPr>
              <a:t>III - a outorga dos direitos de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a cobrança pelo uso de recursos hídric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 compensação a município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I - o Sistema de Informações sobre Recursos Hídricos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9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8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 Leg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topo" descr="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ibuiçõ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rt. 2º São competências da Câmara Técnic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 - propor diretrizes para integração de procedimentos entre as instituições responsáveis por ações de outorgas e ações reguladoras ligadas a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 - propor ações conjuntas entre as instituições, visando otimizar os procedimentos relacionados com assuntos afin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II - propor diretrizes e ações conjuntas para soluções de conflitos nos usos múltiplos dos recursos hídricos;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V - propor ações mitigadoras e compensatórias; e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V - as competências constantes do Regimento Interno do CNRH e outras que vierem a ser delegadas pelo seu Plenári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oluções elaborada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2 / 2000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enquadrament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16 / 2001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29 / 2002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mineração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olução nº. 37 / 2004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outorga - reservatório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topo" descr=""/>
          <p:cNvPicPr/>
          <p:nvPr/>
        </p:nvPicPr>
        <p:blipFill>
          <a:blip r:embed="rId6"/>
          <a:stretch/>
        </p:blipFill>
        <p:spPr>
          <a:xfrm>
            <a:off x="0" y="64515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tas de Resolução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gração dos procedimentos de outorga de uso da água e licenciamento ambient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visto na Lei n. 9.433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a integração dos procedimentos de obtenção da outorga de direito de uso de recursos hídricos com os de licenciamento ambiental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II Reunião Ordinária do CNRH – 18/07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o de utilização da água na mineraçã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stabelece diretrizes para elaboração do Plano de Utilização da Água na Mineração - PUA, conforme previsto na Resolução CNRH n</a:t>
            </a:r>
            <a:r>
              <a:rPr b="0" lang="en-US" sz="1800" spc="-1" strike="noStrike" u="sng" baseline="30000">
                <a:solidFill>
                  <a:srgbClr val="000066"/>
                </a:solidFill>
                <a:uFillTx/>
                <a:latin typeface="Arial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29, de 11 de dezembro de 2002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IV Reunião Ordinária do CNRH – 28/11/200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723920" y="-72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presentaçõ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grando Políticas Públicas de Saúde, Meio Ambiente e Recursos Hídricos – CVC – Sérgio Valentim –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lano Nacional de Recursos Hídricos – Diretrizes para outorga - 200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A, MG, ES, SP, SE e PI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Águas Subterrâneas: Diretrizes de Controle em São Paulo – DAEE – Gerôncio Rocha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istema Integrado de Gestão do Uso Múltiplo das Águas – Sistema Tietê – Paraná – FCTH/USP - Antônio Camargo Júnior – 200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dimentos de outorga, licenciamento e concessões de uso de recursos hídricos destinados à geração de energia elétrica – ANA - 200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1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552720" y="-720"/>
            <a:ext cx="2514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topo" descr=""/>
          <p:cNvPicPr/>
          <p:nvPr/>
        </p:nvPicPr>
        <p:blipFill>
          <a:blip r:embed="rId8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-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/CNR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754380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mas em discussã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 1616 – Outorga e Fiscaliz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– 9 reuniões (21/02 – 21/11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graçã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dos procedimentos para obtenção da outorga de direito de uso de recursos hídricos com os da pesquisa e lavra de águas minerais, termais, potáveis de mesa ou destinadas a fins balneário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T (CTAS/CTPOAR) – 1ª reunião (24/10/2005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gestões de Temas para 2006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águas x saúde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orga de lançamento de efluent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477120" y="-720"/>
            <a:ext cx="259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TPOAR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643896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uito Obrigada!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4952880"/>
            <a:ext cx="74674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Leila Carvalho Go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gomes@sp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www.cnrh-srh.gov.b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0:02:47Z</dcterms:created>
  <dc:creator>Francisca Sampaio Leão</dc:creator>
  <dc:description/>
  <dc:language>en-US</dc:language>
  <cp:lastModifiedBy>Cliente</cp:lastModifiedBy>
  <dcterms:modified xsi:type="dcterms:W3CDTF">2005-11-21T23:11:10Z</dcterms:modified>
  <cp:revision>18</cp:revision>
  <dc:subject/>
  <dc:title>CTPOAR - CNRH</dc:title>
</cp:coreProperties>
</file>